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0612-DDD0-4D12-A62D-C8CB864EE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613D-D772-4B4E-A7AE-FEDE6BFC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D0BE-F317-46B9-8702-671F096CA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13E2-89EC-488C-BD7F-1A7ACA7E6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BA5D-218E-4C27-BE90-F2C81429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E944-BDFC-4622-B709-10040CA9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7C0D-565A-4EC9-8F63-88FBD672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25EB-A5E8-48F7-A6A0-F20B82DB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CF1A-A308-41DF-903A-9AF0B86A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79DB-EF02-411E-90AE-91689BA5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A85D-BDB6-4871-8213-E4E2F0EB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122C-30ED-428C-AA69-4EEE4D26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E83F43-675C-4888-82BA-E416B645537A}" type="datetime">
              <a:rPr b="0" lang="en-AU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80A5B2-E51C-41BA-B4CF-387E10AA00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ahoma"/>
                <a:ea typeface="Tahoma"/>
              </a:rPr>
              <a:t>Science 10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Gene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ahoma"/>
                <a:ea typeface="Tahoma"/>
              </a:rPr>
              <a:t>The Seven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90"/>
              </a:buClr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Assign Alle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90"/>
              </a:buClr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Show P phenoty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90"/>
              </a:buClr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Show P genoty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90"/>
              </a:buClr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Show P ova/sperm punnet squ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90"/>
              </a:buClr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Show F</a:t>
            </a:r>
            <a:r>
              <a:rPr b="0" lang="en-AU" sz="3200" spc="-1" strike="noStrike" baseline="-25000">
                <a:solidFill>
                  <a:srgbClr val="000090"/>
                </a:solidFill>
                <a:latin typeface="Tahoma"/>
                <a:ea typeface="Tahoma"/>
              </a:rPr>
              <a:t>1</a:t>
            </a: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 genotypes and frequen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90"/>
              </a:buClr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Show F</a:t>
            </a:r>
            <a:r>
              <a:rPr b="0" lang="en-AU" sz="3200" spc="-1" strike="noStrike" baseline="-25000">
                <a:solidFill>
                  <a:srgbClr val="000090"/>
                </a:solidFill>
                <a:latin typeface="Tahoma"/>
                <a:ea typeface="Tahoma"/>
              </a:rPr>
              <a:t>1</a:t>
            </a: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 phenotypes and perce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90"/>
              </a:buClr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Answer the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ahoma"/>
                <a:ea typeface="Tahoma"/>
              </a:rPr>
              <a:t>The Seven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ahoma"/>
                <a:ea typeface="Tahoma"/>
              </a:rPr>
              <a:t>The Seven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90"/>
              </a:buClr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Assign Alle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R = dominant red colour alle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Tahoma"/>
                <a:ea typeface="Tahoma"/>
              </a:rPr>
              <a:t>r</a:t>
            </a: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 = recessive white colour alle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ahoma"/>
                <a:ea typeface="Tahoma"/>
              </a:rPr>
              <a:t>The Seven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2.</a:t>
            </a: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	</a:t>
            </a: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Show P (parental) phenoty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Red coloured flowers × Red coloured flow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ahoma"/>
                <a:ea typeface="Tahoma"/>
              </a:rPr>
              <a:t>The Seven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3.</a:t>
            </a: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	</a:t>
            </a: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Show P genoty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	</a:t>
            </a: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	</a:t>
            </a: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	</a:t>
            </a: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	</a:t>
            </a: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	</a:t>
            </a: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Rr  ×  R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ahoma"/>
                <a:ea typeface="Tahoma"/>
              </a:rPr>
              <a:t>The Seven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4.</a:t>
            </a: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	</a:t>
            </a: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Show P ova/sperm punnett squ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	</a:t>
            </a: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	</a:t>
            </a: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	</a:t>
            </a: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	</a:t>
            </a: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90920" y="3200400"/>
          <a:ext cx="3809880" cy="137160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90"/>
                          </a:solidFill>
                          <a:latin typeface="Tahoma"/>
                          <a:ea typeface="Tahoma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90"/>
                          </a:solidFill>
                          <a:latin typeface="Tahoma"/>
                          <a:ea typeface="Tahoma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90"/>
                          </a:solidFill>
                          <a:latin typeface="Tahoma"/>
                          <a:ea typeface="Tahoma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90"/>
                          </a:solidFill>
                          <a:latin typeface="Tahoma"/>
                          <a:ea typeface="Tahoma"/>
                        </a:rPr>
                        <a:t>R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90"/>
                          </a:solidFill>
                          <a:latin typeface="Tahoma"/>
                          <a:ea typeface="Tahoma"/>
                        </a:rPr>
                        <a:t>R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90"/>
                          </a:solidFill>
                          <a:latin typeface="Tahoma"/>
                          <a:ea typeface="Tahoma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90"/>
                          </a:solidFill>
                          <a:latin typeface="Tahoma"/>
                          <a:ea typeface="Tahoma"/>
                        </a:rPr>
                        <a:t>R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90"/>
                          </a:solidFill>
                          <a:latin typeface="Tahoma"/>
                          <a:ea typeface="Tahoma"/>
                        </a:rPr>
                        <a:t>r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Straight Connector 5"/>
          <p:cNvSpPr/>
          <p:nvPr/>
        </p:nvSpPr>
        <p:spPr>
          <a:xfrm flipH="1">
            <a:off x="3884760" y="3201840"/>
            <a:ext cx="2880" cy="1371600"/>
          </a:xfrm>
          <a:prstGeom prst="line">
            <a:avLst/>
          </a:prstGeom>
          <a:ln w="25560">
            <a:solidFill>
              <a:srgbClr val="000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8"/>
          <p:cNvSpPr/>
          <p:nvPr/>
        </p:nvSpPr>
        <p:spPr>
          <a:xfrm>
            <a:off x="3124080" y="3657600"/>
            <a:ext cx="2667240" cy="1440"/>
          </a:xfrm>
          <a:prstGeom prst="line">
            <a:avLst/>
          </a:prstGeom>
          <a:ln w="25560">
            <a:solidFill>
              <a:srgbClr val="000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ahoma"/>
                <a:ea typeface="Tahoma"/>
              </a:rPr>
              <a:t>The Seven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5.</a:t>
            </a: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	</a:t>
            </a: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Show F</a:t>
            </a:r>
            <a:r>
              <a:rPr b="0" lang="en-AU" sz="3200" spc="-1" strike="noStrike" baseline="-25000">
                <a:solidFill>
                  <a:srgbClr val="000090"/>
                </a:solidFill>
                <a:latin typeface="Tahoma"/>
                <a:ea typeface="Tahoma"/>
              </a:rPr>
              <a:t>1</a:t>
            </a: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 (Filial) genotypes and frequen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	</a:t>
            </a: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	</a:t>
            </a: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	</a:t>
            </a: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	</a:t>
            </a: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	</a:t>
            </a: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1/4 RR : 2/4 Rr : 1/4 r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ahoma"/>
                <a:ea typeface="Tahoma"/>
              </a:rPr>
              <a:t>The Seven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6.</a:t>
            </a: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	</a:t>
            </a: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Show F</a:t>
            </a:r>
            <a:r>
              <a:rPr b="0" lang="en-AU" sz="3200" spc="-1" strike="noStrike" baseline="-25000">
                <a:solidFill>
                  <a:srgbClr val="000090"/>
                </a:solidFill>
                <a:latin typeface="Tahoma"/>
                <a:ea typeface="Tahoma"/>
              </a:rPr>
              <a:t>1</a:t>
            </a: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 phenotypes and perce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	</a:t>
            </a: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75% red coloured flowers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	</a:t>
            </a: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25% white coloured flow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ahoma"/>
                <a:ea typeface="Tahoma"/>
              </a:rPr>
              <a:t>The Seven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90"/>
              </a:buClr>
              <a:buFont typeface="Tahoma"/>
              <a:buAutoNum type="arabicPeriod" startAt="7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Answer the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	</a:t>
            </a: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There will be 75% red coloured flowers and 25% white coloured flow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1:08:22Z</dcterms:created>
  <dc:creator>Clinton Hale</dc:creator>
  <dc:description/>
  <cp:keywords/>
  <dc:language>en-US</dc:language>
  <cp:lastModifiedBy>Clinton Hale</cp:lastModifiedBy>
  <dcterms:modified xsi:type="dcterms:W3CDTF">2010-04-28T09:13:32Z</dcterms:modified>
  <cp:revision>12</cp:revision>
  <dc:subject/>
  <dc:title>Science 10B</dc:title>
</cp:coreProperties>
</file>